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0021E9B-2302-401E-B565-B5802632EA5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E07E495-7284-469A-89AF-3334CE67A49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33CAFFF-919B-48E4-BF9A-75307A228F5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B35533D-57A4-4CB6-AE82-63FA5D2A52C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9A13403-7FA0-4936-9175-E1F9512A590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E032D7E-BFA1-4A0C-8112-5EFEFF1722D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30FFB09-4CA6-4346-AFA6-FAA87831C07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CD5DA4-EF16-4AB7-9E60-5C8DB56CF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5788DF-CE17-4672-BF80-581911FEF6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5FA771-699D-4F7B-879E-CF21FEB16E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2E4E96-CC9A-4491-AE4B-7967F38A55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289D9A-2778-4841-B1F9-7E48C8D72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7C3F26-B7BB-4635-AFD2-7BB71F77B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D664EA-91E6-4668-A3B8-D25F43496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55F26-C4A6-46A0-A5DD-039785E5B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83FD28-C1F0-4AC5-A014-0BEDCD2CD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5E7F01-BA83-4CE6-84D7-4C90A0B4F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420E9-0C9B-4D65-8223-8DDA046EC3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895411-415A-4A2F-ADDB-B7F4C7F497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495AA-11BE-42A3-8B51-3961F20F4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05D0D-085C-494D-B8E3-8499AC53E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A26792-3DBE-4E46-AF27-FC59E9EE4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EB10D6-42DD-4FB7-9F36-734268777F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82BA66-7304-459C-8EAE-C36DCB16D0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21C5DE-99C8-4247-ACF1-77835E3934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81E9B6-9CCC-48C7-A5A9-4BAB66FF5A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44109E-4D55-45B4-8317-B7871DA6AF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5676C-6781-4494-9875-02D38749A2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E92EC9-A08A-4035-BCD6-40D9B9274B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F5D18B-0F74-4248-A6D0-FBED05368C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0150C9-624E-4FA2-AB38-CCBA8D5D8F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734B-C121-4CEE-9D49-D38BD6350D28}"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DF73-2E02-4066-844B-153644C83A3B}"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DF3AB1BD-1A0D-4A70-85E5-336E3175DD94}" type="datetime3">
              <a:rPr b="0" lang="en-US" sz="2000" spc="-1" strike="noStrike">
                <a:solidFill>
                  <a:srgbClr val="ffffcc"/>
                </a:solidFill>
                <a:latin typeface="Tahoma"/>
              </a:rPr>
              <a:t>July 30,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